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2CA-5684-4C0D-B393-AB403B31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364-5B9D-4089-84B2-C2DAC2F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5E8-8512-4346-85A4-D16D812A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3CF-97C7-41A0-ACF9-D5EF5E37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B1D7-570F-4D77-9537-29C82B15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9857-8FE8-4C64-856A-954254FB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9EAC-F260-4D26-98A5-CE5E5525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8D13-FCF2-49C4-8025-1295FA30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C87E-97DD-47B1-AB4C-D10BEEB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25A9-8164-470D-8F4B-82C7056A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20BB-0543-4EBE-B057-91E74A6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63B-52E1-4A2C-A898-E5248A01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8C62-E862-41BB-B5CA-389AB838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E161-9291-45FE-A197-3E73C09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A5F5-CB2F-4B55-BAE2-DCAF5A9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B53F-37D6-4058-98D9-0F158056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4B7C-976A-4DD0-8770-32268834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2933-49EC-40B8-96FC-55A4CF1B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7B7A-24CC-4B19-9AD5-1324B5C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C8D8-52C0-4E1B-87CD-A8FAC5E1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A010-9753-49AB-B34C-063C508A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D884-58C6-47C8-9B15-CF7F1014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7AC-3252-4177-A17E-CDA95BB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1D97-5036-4432-82B0-E27B5C0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067D-23B3-434E-A601-1DA83E3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1AC2-BAED-440D-8C83-D5BA0D5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29F4-42FE-4768-98AF-B34726E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3EA0-9E5F-424C-93FA-5C6DD034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33A6-7828-4E16-BCC4-2D1351FA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85A8-39AA-4B51-8503-6DB19F11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C4457-F643-4352-9265-F56861F6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1AB2-74AC-41CA-8CBB-B6B89A9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76D0-06CD-4941-9131-E3817C34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A14-3D4E-4997-B9F3-1C4AD26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DB3F-2AA8-4D5A-921C-E6E2034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06FF-BE26-49D5-8027-1C864BC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0B6F-493C-4E92-979D-AC62C19F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CE4F2-31A3-438A-B1BA-08565C9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46E8-A12D-4D2E-927B-95B718D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DB30-8329-4FCB-8E77-4B6A83A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9128-59B6-43BE-99D1-40A61CD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5AB1-AF66-41A9-8362-C57BA767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01AC-D7C4-4F1D-892B-38C06888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E3BC-8728-4E8C-8047-444DCCD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CC0-6BCB-42FA-AA71-E59C2871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15E4-288F-4470-9418-9573BE0A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A752-7099-4DD9-AB32-1F2E484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6D93-1170-4D25-A7FE-BB86B3BA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FC64-0A95-4BB7-A315-7D24F1AE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1D1E-2775-49F3-88AF-D8A4433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14D5-6CFE-4496-8D99-AC88E21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3F80-11CE-499A-972D-C5D9371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402E-BD03-4BA7-82AD-ED74297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1029-CF32-407B-8DB5-7F199EF8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C530C-663C-40D4-A6B1-6420281C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50C-A0DA-4D31-A9C5-2062572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CD8B-4A05-42FA-83F5-FA600828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1E94-3EBA-4203-843F-F9315E14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9678-A3D2-4F04-B3AC-8EC759E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5FC91-AA58-4D9B-9025-15282DDD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0E49-1638-458D-AC1A-27428E7B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F07A-5F71-49E4-B6D1-F57EDD5C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0B18-D64C-4DBF-90FB-7212F1E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B06B-0055-43E0-AFAA-B92C779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69B87-D452-4E68-B582-0364CF68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F507-525B-46A4-8574-F89C4D9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0B3-5D60-4D52-84D6-83F04A99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3B01-5A37-4D53-9432-65D3C57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EC1E6-52F7-4B1A-95F0-B42DF280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8806D-B247-4C9E-BCCA-AFA0633D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E93B-4524-4E03-81A2-B8979C14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438FF-F8C7-4DCF-844B-305D90D5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A6E8D-4B0E-4B40-AAB7-DB7584F1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7EA2-9C40-48DA-9A5C-9652322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435C-3A90-4B9D-B3F2-41E17AA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204A4-470C-4212-935C-AA6C4E36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3FDC-0752-4748-A216-EBCF363D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193-5275-4501-A7AF-37F65A51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3FA8-1D32-40A7-BF77-AF00AFBD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3D55-ADA6-4E23-A910-7929EAF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DEED5-BD53-4ED2-8124-AFCD5B93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47A2D-B1A5-4A0A-A7AC-14002D86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07AE7-5002-4850-ABCA-8BF8278C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62C-3632-4CAE-A6B1-D4CD1F4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F938-8547-4F93-9ACE-A22C42115A0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C24-7F64-4EC9-8065-3B64DF91C0A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E5FD-17F0-4364-BA3F-C2420B75A16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F28-BE9B-43A7-8022-DFA3BA9CD92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647-0466-45E2-941B-82C2C06DFEC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DA0B-0A95-41A9-87E3-C8ED567A636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379F-E034-484A-BE77-627EB0D68A4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560520" y="974880"/>
            <a:ext cx="8175600" cy="4292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Gladys Martínez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AP Literatura  Avanzada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4 de Diciembre del 2008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3059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Quéjase de la suerte: insinúa su aversión a los vicios, y justifica su divertimiento a las Musas (“En perseguirme, Mundo, ¿qué interesas?”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soneto es una combinación de catorce versos, los cuales están estructurados en dos cuartetos seguidos por dos terceto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esquema de la rima más general es ABBA, ABBA, CDC, DCD, aunque son posibles otros esquem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femin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Crítica a la superficialidad de la socied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intelec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atíric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 del Sonet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Poema cuenta como Sor Juana responde al ataque  de la sociedad Mexicana de esa época. Es expresado lo difícil que es ser mujer en este espacio y este tiempo. En este soneto, Sor Juana se queja de la falta de comprensión de que es objeto, y defiende su pasión por la poesía, y su ardor por los estudi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Ambien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iglo XV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144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orbel"/>
              </a:rPr>
              <a:t>Sátira filosófica: arguye de inconsecuencia el gusto y la censura de los hombres que en las mujeres acusan lo que causan  (“Hombres necios que acusáis”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6094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erie de redondilla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(cuatro versos de ocho 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  con la rima  abba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: Ocho sílabas  en cada verso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Rima:  Rima perfecta, con el esquema ab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    a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             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 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            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Versos agudos: el verso agudo (termina con palabra aguda y el acento tónico cae en la última síla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rbel"/>
              </a:rPr>
              <a:t>Rima asonant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DA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Hablant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ablante líric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udienci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ombres neci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Poesía : Hombres Necios que Acusá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Fecha de la poesía: 166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diferencia entre los roles sociales de los hombres y las muje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injustic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xpectativas soci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mach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Feminism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9" descr=""/>
          <p:cNvPicPr/>
          <p:nvPr/>
        </p:nvPicPr>
        <p:blipFill>
          <a:blip r:embed="rId1"/>
          <a:stretch/>
        </p:blipFill>
        <p:spPr>
          <a:xfrm>
            <a:off x="0" y="228600"/>
            <a:ext cx="4576680" cy="5113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http://span3per1.files.wordpress.com/2008/04/sor-juana-retrato.gif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siona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electua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n el poema, la voz poética reprocha a los hombres su actitud ante las mujeres. Sor Juana satiriza las relaciones entre hombres y las mujeres, exponiendo a su burla la falta de lógica del hombre que acusa a la mujer del comportamiento que él mismo provoca en ell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Alejandro Soriano Vallés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quella Fénix más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rara. Vida de Sor Juana Inés de la Cruz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éxico, Nueva Imagen, 200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Juana Inés dela Cruz, Sor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Poesía lírica.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Edición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José Carlos González Boixo. Madrid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ones Cátedra, 199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ón digital a partir de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nales de Literatura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Española,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núm. 13 (1999), Alicante,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Universidad, Departamento de Literatura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spañola, pp. 85-105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Friedman, Edward, Valdivieso, L., y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Virgillo, Carmelo.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Aproximaciones al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estudio de la literatura hispánica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. (20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La Cruz, Juana I. "Sátira filosófica: arguy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inconsecuencia el gusto y la censura d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los hombres que en las mujeres acusan lo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que causan  (“Hombres necios que acusáis”)."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Vol. 1. Evanston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cDougal Littell Incorporated, 2003. 378-81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De La Cruz, Juana I. "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Quéjase de la suerte: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sinúa su aversión a los vicios, y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justifica su divertimiento a las Musas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(“En perseguirme, Mundo, ¿qué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teresas?”)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"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 Vol. 1.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vanston: McDougal Littell Incorporated,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2003. 377-78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¿Sor Juana Inés de la Cruz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295280"/>
            <a:ext cx="7772400" cy="518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Corbel"/>
              </a:rPr>
              <a:t>Juana Inés de Asbaje y Ramírez de Santill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Nacida el 12 de noviembre de 1651, en el pueblo de San Miguel Nepantl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autodidacta, humanista, gran poeta mexic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hija de criolla Isabel Ramírez de Santillana y el vizcaíno Pedro Manuel de Asbaje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Inteligencia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rte virreinal : dama de la virreina Doña Leonor Carreto, Marquesa de Mancer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nvento de San José de Carmelitas Descalzas en el 14 de agosto 1667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Enclaustramiento vs. Matrimon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dedicación al estud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Murió: Ciudad de México,  1695- por una epidemia el 17 de abril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Curiosidad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1eeff"/>
                </a:solidFill>
                <a:latin typeface="Corbel"/>
              </a:rPr>
              <a:t>aparece en los billetes mexicanos de alta denominació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reció en los mil pesos (con inflación terminaron volviéndose monedas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or Juana salió de circulación brevemente, para reaparecer en los billetes de dosciento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1eeff"/>
                </a:solidFill>
                <a:latin typeface="Consolas"/>
              </a:rPr>
              <a:t>Las obras po</a:t>
            </a:r>
            <a:r>
              <a:rPr b="0" lang="es-MX" sz="3600" spc="-1" strike="noStrike">
                <a:solidFill>
                  <a:srgbClr val="c1eeff"/>
                </a:solidFill>
                <a:latin typeface="Consolas"/>
                <a:ea typeface="Arial"/>
              </a:rPr>
              <a:t>éticas de Sor Juana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</a:rPr>
              <a:t>Inundaci</a:t>
            </a: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ón castálid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89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Segundo volumen de la obra de Sor Juana Inés de la Cruz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91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Fama y obra póstuma del Fénix de México, Décima Mus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700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OVIMIENTO LITERARI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Barroco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ovimiento artístico y cultural extendido por toda Europa y que entraña una evolución de las ideas del Renacimiento, que supone cambios drásticos en la forma de pensar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ovación de técnicas y de esti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zclando estrofas tradicionales con las nuevas, así cultivaron el terceto, el cuarteto, el soneto y la redondill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ASES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anierismo (1520 - 1560): Se caracteriza por la desintegración del Renacimiento. Es un estilo de crisis, desproporcionado, con exceso de ornamentación, intelectualista. Es la primera fase del Barroco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(1620 - 1680): Es el estilo de la Contrarreforma. Se da una exageración de las características del manierismo sin proponer nuevas form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tardío (1680 – 1700): Se caracteriza por un retorno al clasicismo que llevará al Neoclasicismo, es de nuevo un episodio de desintegración, en este caso de las formas barroc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ENOMENO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ULTERANISMO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Predomina la poesí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ueva la sintaxis; las ideas no cambi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Originalidad de la palabr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Valores del renacimien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táforas brillantes Góngora el mayor expedien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IGURA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ntíte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Metáfo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Retruécan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ostrof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ircunlocució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24:41Z</dcterms:created>
  <dc:creator>Gladys Mabel Martiez</dc:creator>
  <dc:description/>
  <dc:language>en-US</dc:language>
  <cp:lastModifiedBy>Gladys Mabel Martiez</cp:lastModifiedBy>
  <dcterms:modified xsi:type="dcterms:W3CDTF">2008-12-04T19:07:58Z</dcterms:modified>
  <cp:revision>64</cp:revision>
  <dc:subject/>
  <dc:title>Slide 1</dc:title>
</cp:coreProperties>
</file>